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9E4-F601-4DDC-BE9D-319976DC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EB2-1587-45F1-956E-A3228D57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494D1-C1B1-4540-BC84-10B0C752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33845-88B2-4458-B60A-66F5DF6D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9E50E-6D9E-45F9-9800-2F204128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A54CF-4656-4DD8-A076-F2FC9FC4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92E1C-FA35-4940-80DD-1B304479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FDE53-E914-48C9-A1F0-FC6C1D0C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EC133-7DD2-4D9A-AED3-A18E3D77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DCB98-F511-4977-86AF-CEF9950C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B50FB-2ED4-432B-957B-4644B7DB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700E6-E05D-463E-BF0E-81B7D906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5FB-14F0-41BB-B3A1-73C0CAF4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38F8A-E265-4A1B-AC89-5FE8E589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13D54-7A84-44DD-9427-563E8345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07284-230F-4A18-A3BB-4FE3B6C9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4980E-4A02-410F-BE16-115AA86A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DB9B2-5AE7-4616-B938-06CE7C1D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EC247-B79A-427F-84EE-E53AA340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D0B3B-7834-447C-B3B5-1E7210BF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827A8-FE38-4F2E-8057-BBA2C288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37E30-E9C3-40CF-86C9-2F6F6A9D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C083E-CE03-41FF-BB03-0982DBA9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836-BA1E-40A1-8090-CCAAC517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2BF74-B97B-4E51-A956-4421A6A4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8D8B0-F05C-4627-B3D4-C2A0D50D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2879C-11BB-444B-981D-E71939BD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A4C3B-DB38-47A1-8B28-CC852238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D6AE4-D6A8-47D9-A351-98DF2F52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0431B-1BC4-4284-B2DB-B4ABEE54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BDDAC-C18D-4F1A-8A83-20A60D31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C6B43-728B-41D5-B683-2B892C27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DEE1D-A6F3-4A4E-80CE-07C46A22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EB82A-31F7-4D6E-AB6C-33F2FCCB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9129-FCCC-42DB-AA28-097C94FD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70D7F-55EB-4806-95B2-335524DA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A9ABD-1AE3-45DF-8188-F26D2A21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F5C4C-F193-4EB8-A7BA-E7B58EAE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2D772-5CD0-40A8-86A0-991B31C1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B8B22-9A43-454A-A497-CECC2E3E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9C60C-3D4B-4907-A604-CA6E9B46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04621-FA69-4DB0-BEDE-3D4CE624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66288-50A9-41C1-AE04-341B4D69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6FD49-21AE-4AEB-92F1-71FE93AF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6B029-D5D2-4285-B961-D75A19F6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327F-617A-440D-B459-D8628BF4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3B215-683C-49F1-89E1-208B7A97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E08A9-7E08-4146-AEA9-3C29C3D7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D5F9F-A6C6-497E-A943-60167C6A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009A3-4809-4CD9-9CB0-0D21DFFA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5F079-0915-4709-98B1-8980F108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989DF-D7C3-485B-AE1C-D7C00E1A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A878E-BC9C-4A30-BCE1-18BDCA5D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939C0-16C1-4CE8-ADFD-56CE87B3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556D1-1B95-4926-ADBE-CA238BE0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46763-EE79-42B5-B667-1163159C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44A3-5FC0-4B23-8535-09444F8D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C2717-2A14-4A13-8F65-C4F42AE3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063D5-197F-449C-B2E9-87858C30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9F54C-701F-462E-BD95-0545D131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A0411-095A-435C-9CC1-6F4D431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6D06C-E8B2-4A79-B986-6C4E983D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2A628-C06D-4351-9CD2-945DFF53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EC1D4-46BF-4E74-B75C-93DDD9A2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DEDEF-9DE7-46DD-8DEE-1CF78E16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EC3CF-C44B-4189-86E2-74B4751D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06A71-F41C-4776-99B5-5C026303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4214-C7F4-410C-95C6-65653878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6EEEAB-4C68-4267-9AFD-0FB61E5B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E9717-279E-459A-928B-56511910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AEE4E-B01D-4C3A-BB55-7C98D49D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3046A-F754-4140-8C92-9482E63B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D96E0-650B-42BC-A57C-82F11EBC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94894-F5EE-4B27-B34B-CC5007C0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8B314-3727-4BBC-922A-B912F2CD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5430C-AC6A-4CF1-B26A-004EBE40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F2E5C5-28BF-4D1C-822E-FCBFF419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F6585-83A7-4822-B741-B1CC1120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8140-06F3-441C-9168-EECA8EF1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F1798-5553-4F26-B0F6-FD57B6C6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06FFB4-DBCA-49D3-B66D-41B53954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BFCBF-8CFC-460B-BAFA-CB0D2A41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3573A-82B8-413B-B9FD-0DABEC62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7BF7A-C72A-4787-B894-2FFDD479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0CDFF-5C37-4326-A00D-B2EBE79C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2CD6F-1A23-4AED-A048-C800D8C4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F6C4E-91B7-4D59-BA81-24490966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C8C05-C168-4155-8C13-360055ED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21695D-9AAA-4192-B1AD-E3FA551B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FFD7-C062-4750-AB84-6A1192B8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5D116-A754-4AC8-B18F-00496D75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A6345-E6D9-40C1-8D30-653A2CAB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6FC623-CE68-4BC9-B48D-6CD58A74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43B6E-FF02-4A87-846F-268FDCD3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C7A223-9F97-458A-9326-320EDBD7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5C3796-9E48-47C9-BBE3-88FF71A8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A4899-3627-4256-9D73-8AD3757D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CDB1A-A665-4B68-A396-71BD9B7A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66545-36C1-4F39-80AD-E458F9E6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8B9F5-537C-47A9-9C45-D9D39872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42B8-9A31-435D-B8BA-DB9C3E55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00A18-389A-46FB-BEFF-856F22BA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C6B3F-D678-4AE0-8EBE-6702B96F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C7326-CAF9-4C04-877C-20DA4D94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710101-0DEC-4B3D-BADA-6D4A8E1B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04215F-2A19-4810-96FB-D36393F3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0B4C5-4D3E-4186-804B-51713DF6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AE9287-C678-4337-9BA9-A6937D8C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8F86D-B50A-4A35-89CC-418B5116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63446-628F-403A-9F84-65169AF3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33472C-4C30-4389-BDA8-3C573FE0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5C2-A359-4DB8-B909-7AC29158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92C4-86C2-496A-9BE5-1EF494AE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19ECFE-8F5A-4EF0-B85E-AA16C8C0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AF257-CCDD-4A57-A56E-238C568B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FA15E2-DE8F-4171-BC94-B1768918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1D0BCA-B940-43DA-A295-DEFF6E5C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4EE7A-EBE9-45BD-A664-81A7A249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9B822A-8714-416B-A380-8880DCB4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B4956F-F56F-4B26-888F-895B6D57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589488-0790-4C7C-AE62-A118EA4A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CCFC6-699B-4FAD-A1EC-BC3FA047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6CECE9-5B32-4594-81D4-5DC7C206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3977-9CC6-402C-A9D6-6D873CF2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552A64-5486-4EE1-89A6-72F75825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628B4-24D7-44CD-9C16-01BF7EF7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7394F-6549-4E6C-9D12-716EBC70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AADBD-B735-4851-8129-6B521A65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200AA5-B98B-4F11-A513-0E0DFE70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E0EB9-B89B-4539-AD32-CE0453B4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FE13B7-AB68-42A0-9F20-DBB367E9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CBC580-D2BA-4922-AB67-AC6537AB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9EB86-6B91-45F2-B50D-CADD77E3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879344-B872-4D4D-9B68-77A60271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823E-AC36-40C0-AD43-13F084CF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4C87C-F6C5-4667-99B1-E4DDF961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BF04E3-1006-4C9A-B49C-EA9D1E1A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FA6531-E769-4C08-B66D-6F2F32AD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246AF-499C-4ECB-A2F6-D9C5621B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4B7451-43F9-4589-B266-C11C5B2B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EF26A-A0EC-4710-BA90-53B65BA8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7ADEF-8D46-48FE-9FB7-909B2A27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F98C4-EE00-4212-85BB-FB55AC0B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9FD94-D43F-4AD8-A7F7-45D99FC8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4E9624-E53D-490A-A274-9D3BF0C3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55D5-4496-4080-87AA-2BBDF620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9CF152-1465-4D0F-AB9B-0FD8EE61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604BB9-54BE-4CF0-AC17-DDE20A94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7B53D7-A43B-4669-8B57-EAFB881B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790A4A-75F9-424D-8D53-65D1074B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1D1EF7-2BF4-488B-805D-8B87D1E4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B34C8-8300-411C-97D3-ADFFE112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19FF8D-9778-48D0-87DE-D1BDBD84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696090-467A-4D72-A3B3-3185B1BB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AC5EC6-43B7-4276-9CC5-EC69A347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723B0C-6236-4FD7-B1BA-268C680B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EB1A-37C7-41D8-BEFB-2AD6E52C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9838F-34D5-40AD-A07B-FD73FFC5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B0E2A7-B4B6-40B4-89FB-0456EDBE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409E19-C403-4EC7-8D2E-22D37639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DA0509-CE24-4198-BF00-C3987DA0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825B1-6179-4015-B569-C7D07FC5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79472E-6FE1-43A5-8CBC-EA292AF8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E8214D-919C-47A2-8BD9-829B5089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C49578-3AE2-45A0-B202-06277891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732A19-9DB3-46F5-8BB6-035A700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19CCC1-C744-46C0-87CC-1AFDE26E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C187-B7C5-47D9-A659-DE8B2444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107AD4-E57B-4342-B09E-AA2C232E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B18C47-BAB1-427E-A86D-12A0D6F9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DBB259-3EEF-4FC2-AA68-B1C3D219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97407A-DC97-41EC-97B6-13757074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05A7EF-EA53-4C7F-8ABA-85210F08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C5B9F8-D809-44CA-AFEC-1BF97943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1FC36A-A8F6-4A1F-8A81-D209623E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00F83E-D254-4BB3-A041-5D7114FA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029D2D-EBA2-48F3-B03A-1817AE95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434AC6-EA8E-4D23-9862-81AA305B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9631-B972-4700-98D8-B4E6671D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749BA3-DA5E-436C-8596-0D803682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B34372-E199-4274-AB96-A9A2CD4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51E07A-26AF-42CE-BE77-80DCC29E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5665A2-9C2F-47A6-AAC7-E7420F29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2AB184-4DEF-439A-B4C8-E10F0CEC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0960-CFD4-4E2B-96E5-50F0F7CA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5F007-5225-4395-A52D-2DB2EFE0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863F2-5BF6-4E15-B065-FA482E2A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DDD-01F5-4F6D-A5C1-4CEF1C8A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D4FB-A67B-4BC8-B389-8E8B2FB0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13A22-AA0E-4829-91DD-CE4D7CAD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96C6-F2BD-41AC-8607-E4AF259F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8CCE-6BC6-449D-9FE1-58A0A8F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BF6F-0CBE-45A3-AA10-72BA50AC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9547-3FD7-4D38-AC16-2EDEB25D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A469-74CB-4CAE-9FCD-C03858D4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B3F3-AD2D-4A66-8D3B-BD67DB58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B771E-1E4B-415C-9F48-A36B784B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C6DE-27CE-4C65-9430-88EB8264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638-5C83-4588-9785-468B7DAA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75D57-07BD-4021-8C2A-F5627B25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42FED-2FE9-4CBD-8952-2717DE11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B1B5-D16D-418A-9AE0-337C4470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C1F64-D859-4E04-87A5-FDE4D995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64B38-B0F1-406C-9189-3641B2FE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810C-8A7C-485F-ACE0-CE5934C4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16431-E32B-41DB-AEFB-7ED23FFE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8C8FF-2FC3-4820-9933-6ABB7866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C3F80-956A-4F6C-B728-C4EB5936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0AD13-0F8E-4E91-B797-8C130B95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E60-825D-4C9C-B252-0C778426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EC40-9BC5-4C2B-BC11-DDB0C224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98A54-87D1-45EA-8F95-762AE8D7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F6FF7-C449-4E56-A6C8-57626A52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ACB43-5786-40DD-A190-B4E8B774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6875D-D9E6-48F3-B385-8B401B6C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A8B7C-7C75-4914-9229-2E56AF33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D5051-0C43-42FE-94F9-3A5EEACF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941DE-1A8F-4424-9EEE-2DF9B007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B1705-8B24-4099-8651-680D32D9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E7A9C-9E52-4715-8288-6E6333FE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6C7-8C3B-4535-BADA-363DC765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3AE19-8B7A-4FA5-B373-D91BC042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68579-E73A-4401-BAC9-ED38F2DB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18828-B89E-4E6D-B71A-7CF8405B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A5CF5-D4FD-4BA9-8701-31CDAF31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2F55E-9627-462A-9BCC-2A591114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D0606-6029-42B8-BE6D-ED41AFAB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1B7E2-0D4D-4FE0-A9DC-CE4BF854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350B7-481B-4A27-8756-180B4376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E53C4-1696-41B5-BE87-F1E3CCF4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D56A2-92D0-4577-A781-4FF7AB5B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0BD-89B7-46AA-B1EF-2234B905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9EDD1-D206-417C-AFB8-90504B13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461A6-7054-4708-8BFB-AF3B8523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C6EE6-43E1-4F5A-BD53-26EF9E8E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1759-6FF7-482C-AA3B-84B7D353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63BD-F7DB-4E2C-AAC7-61582DBA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06EA-001E-4FF2-A07B-4EAB1C11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B3C41-142C-453A-947D-9A7E1DAA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9C000-1A98-404D-A5E4-1EBB9C70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B4239-88BB-49F8-9735-EA41EC49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D5C93-E72C-489E-A368-FBCD656F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40C-1486-40A7-9997-08D21CCF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0B17F-7CDF-4AAC-9ABC-19B40FC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700A6-8DAE-4529-BA80-55358B79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CE7F6-EBE4-48DE-B08E-807C6B70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A2084-48E8-4FA0-8FB6-F711C0CA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D7C74-C7AB-4AE3-89C8-39A62391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40FAB-2307-4678-BC4E-FE54BDB6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C54DE-137A-49E5-9337-5F91515E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82FBE-0373-4A16-8CC4-D74F89CE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B494E-3343-40EF-97EF-9D68A8CE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A0D51-107E-4441-9807-EFE51E69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947-AD4F-46C7-BF84-A9F83770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E455C-652D-4BDF-9618-7922C5C2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2F792-45BF-4687-8E66-6D4936BE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8676F-9F83-423E-9A49-F410542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2EF69-9E97-41E3-B1EF-E5E6FB28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4F2C8-3801-4F0B-B07E-C69AB827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ADF07-E5D1-4EA5-92A3-89EB85E4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D96AD-83A3-4110-8689-BBA543B0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49DD1-5714-426B-99E3-E1CBC717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C2EA8-5668-4F84-A3BC-6F887A3F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F1C12-22EE-45F8-8F7E-EA163788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15EE-869E-4E54-855B-1B62265DF7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5DEA-C0E0-4137-962A-E340DB03B3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7B62-E006-4EB3-B389-C7FA926217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2B98-15A2-468D-8BBE-55AF81DA9D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801E-8658-4B5B-80BC-0E4614CEC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A8C9-0E45-4067-BC3A-68E2AB585A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1E37-3E0E-4768-AD93-829B94ABD9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178C-ADFD-4864-B6B3-088A1AA07B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223-8BD7-4744-95FF-057A4B919F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02A3-40B7-4E56-B74C-3F0B7F079B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C1E6-1C7F-4648-9FDE-4975FF0873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ED56-6B79-431E-A3EE-2018029A38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BB5B-1759-4AB3-8398-F77719451E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12DC-CD3F-4A12-9F38-5B80583A4B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BD59-6420-41DB-A43A-2B089C3F13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2E00-2422-4382-8ED6-52E03AAAD0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BD89-4F66-4D31-BC7A-59A0BB2F4E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823D-FDDE-4E1D-A5FF-3E5B19EB9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C1C2-875D-4F10-8667-ED98AE3AC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9FB1-768A-4273-9846-BE5BE4ED3B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0999-71FF-493D-BBDF-394C9B4E8E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746E-54EA-49D5-A6E6-9EF074A6D0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D8CF-19DF-4612-87C5-C4EB3779CE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988F-04E1-4A34-8A1B-9F1F23AABA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A430-0526-4C49-B27C-6130B969F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FCB4-ED0C-4DA4-A86E-46F95DDCB9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DDC3-1E27-4B2B-8672-8FD3F07F9A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388E-A6AE-4498-9E5A-C13A46C8AD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CC26-DDBC-4200-B4CA-AB86E761D2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6FB5-A0CB-415E-9B74-BF1E794394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3DA0-88EA-40F8-920D-83A853D350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342C-C21A-4466-9B5E-B1D3370A8B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1899-A544-4568-93A6-8E5F7862F3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BAAF-CCD1-4E1F-8D3A-8DA95619C6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FD3B-E0E8-4FC4-B30F-4F10367F36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8D2B-3F91-43A1-9710-67F098C694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E8D7-E76D-40E7-A31E-7E061A237C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496F-90FD-40EE-B364-92C45D5E6C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B386-161B-47C8-9712-490C6FCC75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FE01-4436-4880-B09B-D1D310FCD8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617A-184C-4817-AB18-9C9DF7FD58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238480" y="3143160"/>
            <a:ext cx="46670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419040" y="1447920"/>
            <a:ext cx="8305920" cy="39621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2152800" y="2997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083120" y="3645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5192640" y="29923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192800" y="3573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8331120" y="29844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1042920" y="49165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2152800" y="4292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4067280" y="49118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5176800" y="42879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7093080" y="49118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8202600" y="428796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7169" descr=""/>
          <p:cNvPicPr/>
          <p:nvPr/>
        </p:nvPicPr>
        <p:blipFill>
          <a:blip r:embed="rId1"/>
          <a:stretch/>
        </p:blipFill>
        <p:spPr>
          <a:xfrm>
            <a:off x="290520" y="1224000"/>
            <a:ext cx="8562960" cy="4410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1979640" y="18730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4010040" y="19018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6084720" y="1916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8272440" y="1916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6"/>
          <a:stretch/>
        </p:blipFill>
        <p:spPr>
          <a:xfrm>
            <a:off x="1965240" y="23781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7"/>
          <a:stretch/>
        </p:blipFill>
        <p:spPr>
          <a:xfrm>
            <a:off x="3981600" y="23637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8"/>
          <a:stretch/>
        </p:blipFill>
        <p:spPr>
          <a:xfrm>
            <a:off x="6084720" y="23781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9"/>
          <a:stretch/>
        </p:blipFill>
        <p:spPr>
          <a:xfrm>
            <a:off x="8158320" y="23781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5" name="图片 7178" descr=""/>
          <p:cNvPicPr/>
          <p:nvPr/>
        </p:nvPicPr>
        <p:blipFill>
          <a:blip r:embed="rId10"/>
          <a:stretch/>
        </p:blipFill>
        <p:spPr>
          <a:xfrm>
            <a:off x="1476360" y="5027760"/>
            <a:ext cx="1733400" cy="476280"/>
          </a:xfrm>
          <a:prstGeom prst="rect">
            <a:avLst/>
          </a:prstGeom>
          <a:ln w="0">
            <a:noFill/>
          </a:ln>
        </p:spPr>
      </p:pic>
      <p:pic>
        <p:nvPicPr>
          <p:cNvPr id="986" name="图片 7179" descr=""/>
          <p:cNvPicPr/>
          <p:nvPr/>
        </p:nvPicPr>
        <p:blipFill>
          <a:blip r:embed="rId11"/>
          <a:stretch/>
        </p:blipFill>
        <p:spPr>
          <a:xfrm>
            <a:off x="6343560" y="5068800"/>
            <a:ext cx="1757520" cy="4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图片 8193" descr=""/>
          <p:cNvPicPr/>
          <p:nvPr/>
        </p:nvPicPr>
        <p:blipFill>
          <a:blip r:embed="rId1"/>
          <a:stretch/>
        </p:blipFill>
        <p:spPr>
          <a:xfrm>
            <a:off x="1461960" y="1690560"/>
            <a:ext cx="6220080" cy="34768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2"/>
          <a:stretch/>
        </p:blipFill>
        <p:spPr>
          <a:xfrm>
            <a:off x="2843280" y="38178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3"/>
          <a:stretch/>
        </p:blipFill>
        <p:spPr>
          <a:xfrm>
            <a:off x="4716360" y="3817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4"/>
          <a:stretch/>
        </p:blipFill>
        <p:spPr>
          <a:xfrm>
            <a:off x="3780000" y="43210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5"/>
          <a:stretch/>
        </p:blipFill>
        <p:spPr>
          <a:xfrm>
            <a:off x="3276720" y="433692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6"/>
          <a:stretch/>
        </p:blipFill>
        <p:spPr>
          <a:xfrm>
            <a:off x="4657680" y="433548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14:5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